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AFF3-0D87-443A-9C00-9BE862CEC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ED6B-B5C8-42DC-B98D-7EE2441F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1716-724E-4143-B98C-57E07A8FD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74B8-3ED4-4706-A8C9-118565CC7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B1CA-1E1F-41CE-802C-70E68D3F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B5B7-41B5-4487-92E8-8C05838C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2C8F-EDDB-447F-94DC-E143B4CF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3CD6-0C42-4D29-87B6-200F223C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964F-D23F-4A4B-B40E-4FE8FECE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D737-5C12-40BB-8EB2-7DC1AE8B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2A91-0E10-4474-8061-8B69DFA5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E8E0-C7F7-453B-88B6-E401EA88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7F9B-77C3-4191-8B37-FB60498C4A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2133360"/>
            <a:ext cx="3962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In Cup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Iod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In Dialysis Ba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Starch Sol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Gluc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181480" y="2133720"/>
            <a:ext cx="2819520" cy="3276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6248520" y="5486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sm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2280" y="1676520"/>
            <a:ext cx="4648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Potatoes in beakers with different solu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Distilled H20, .2M, .4M, .6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Measure percent change in m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5105520" y="1371600"/>
            <a:ext cx="3228840" cy="1523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4952880" y="3124080"/>
            <a:ext cx="396252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3:27:49Z</dcterms:created>
  <dc:creator>Phil Dorjath</dc:creator>
  <dc:description/>
  <dc:language>en-US</dc:language>
  <cp:lastModifiedBy>Phil Dorjath</cp:lastModifiedBy>
  <dcterms:modified xsi:type="dcterms:W3CDTF">2011-02-08T04:49:39Z</dcterms:modified>
  <cp:revision>9</cp:revision>
  <dc:subject/>
  <dc:title>Diffusion</dc:title>
</cp:coreProperties>
</file>